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51450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dt" idx="37"/>
          </p:nvPr>
        </p:nvSpPr>
        <p:spPr>
          <a:xfrm>
            <a:off x="3884400" y="-3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Img"/>
          </p:nvPr>
        </p:nvSpPr>
        <p:spPr>
          <a:xfrm>
            <a:off x="114120" y="746280"/>
            <a:ext cx="6629400" cy="373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800" rIns="91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 type="ftr" idx="38"/>
          </p:nvPr>
        </p:nvSpPr>
        <p:spPr>
          <a:xfrm>
            <a:off x="-36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 type="sldNum" idx="39"/>
          </p:nvPr>
        </p:nvSpPr>
        <p:spPr>
          <a:xfrm>
            <a:off x="3884400" y="9446760"/>
            <a:ext cx="2971800" cy="498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F344-35AE-4F3F-BAD4-162152D3AE7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3032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тульный слай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Номер слайда 3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33F5-153C-421D-B325-4CF73BF794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Верхний колонтитул 1"/>
          <p:cNvSpPr/>
          <p:nvPr/>
        </p:nvSpPr>
        <p:spPr>
          <a:xfrm>
            <a:off x="0" y="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480" y="746280"/>
            <a:ext cx="6629400" cy="373032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725720"/>
            <a:ext cx="54864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Верхний колонтитул 3"/>
          <p:cNvSpPr/>
          <p:nvPr/>
        </p:nvSpPr>
        <p:spPr>
          <a:xfrm>
            <a:off x="0" y="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Номер слайда 4"/>
          <p:cNvSpPr/>
          <p:nvPr/>
        </p:nvSpPr>
        <p:spPr>
          <a:xfrm>
            <a:off x="3884760" y="9447120"/>
            <a:ext cx="2971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6840-0FBF-4B68-96BF-1608A8B365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999F-5B0A-477D-8DB6-042D3F905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4F6-C7F6-49C4-BD8D-9021A070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57734-EE57-486A-B9D3-D700D4CD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DFE34C-94A1-47D6-98AC-0B620910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5462B1-5F38-47B5-8532-E973A5F0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7CBF40-8771-4757-B59A-DC7D14A6D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E2EBC-4179-4BD9-94FB-47BFFF4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67C0A-8DC9-44F3-B1EF-9C92A55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38DC00-C178-4D52-B986-56F960231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82CDC0-E015-4DB0-9410-0AB44E4EC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B599C6-6E47-4BD0-B19F-CC26575F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B4F3DB-1B70-432E-805C-951FFE8D8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744E-7484-45DF-A7F4-BA43895E0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6C05B2-35EC-439A-BB70-0112B1E8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DBB7E-1A80-4142-A19C-E6ACEAE8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DD3A8-B5D3-44AE-89EA-EA153FB5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1B566-C116-4385-BBC0-E49761965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76EBD-39E9-476E-839B-2BFC84BF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19089-AA1C-41FD-8D05-DA4A57F7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6BD845-3541-4638-914F-3715562C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2688E-8D78-47B0-B965-95ED519FE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AB3DFE-4C9E-4420-9323-804BE3EF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B3FBA-010C-479E-BF60-A17BBDA91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A0A0-26A3-45DC-98BC-CC3206143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55C15E-778E-4393-8242-DD73234A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1896B2-8B6D-4DC4-BEC4-C2B04F23C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5FB03-FC3B-4D9D-B4F3-B13E9B33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098A9-27CB-4EEA-9DCC-4F68FC02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68E93F-5FD3-4F7C-8786-9E3F124E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591B0-915B-4CCA-90C7-0AECAD3B5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DC83B7-3806-4476-A616-10AADAB6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81C20-2F51-473D-90CF-24ECE20CD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86D34-E060-4660-9567-91E03E4C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9C504D-B6E0-47C1-A9DF-F4C4EA2C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C7EA1D-2713-48B3-8A5D-73AC122B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65531-73E4-41A1-9D21-11EBE00F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57F1D-9EB6-4B4F-AAF5-5E2B0BD16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E17137-0BAE-43A8-9360-1BDBCAB7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5C01E-A17F-4A4E-A6DA-B73F410EF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2DBC6-6423-495D-96FA-06A5C9E80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0E26A-CB6D-48F3-8E4F-CA42E3E6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6A5022-8FEC-4C69-B2C6-716B37A9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03062-BD04-4CB1-A587-21366092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1450B4-133D-4138-8745-39A2AAC1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FE287-E794-47B8-A01A-2E0E6726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E6857-B525-4304-BB03-FD904F9E4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D95C2-7E07-4E0D-BD53-10FBC824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1134EA-4E77-48B2-8F6B-46EE1B44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0C982-159E-4007-8C1F-3FE77D41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08AD27-A523-415C-A395-618CA897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335B1-E08E-450B-B556-DC726C248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E3865A-7F13-42D4-BBBD-1D33614E3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877050-4C96-4F28-A39E-5B7A501C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E9F5E-E0B6-4170-87E0-61E8C0895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DEB78F-F601-4755-A3EF-E09F5DF1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34BF0-3AE6-45FE-8123-7C35E92F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FC1-4081-4747-87AB-D893CFC2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19369D-7464-47E5-A75B-BCF0AC8B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DE487A-C3CF-40CB-81C0-E7ADC886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E8B72-6E45-4F3C-8F79-37726B6A4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8CDAB-5ED4-4E3C-A44D-F3304096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BDEC60-DC2B-41F5-ABB2-7273D538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85540-BB0F-4027-B1BD-E09EB427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2B6749-8DA5-4E91-9079-67774112A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E92B4A-76B6-448E-9751-4FC306C7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9D5BF-5AC8-4393-9B2D-6193B6949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72AC1-4CD1-40EC-98E0-98E8AFE1D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54F3-AC6E-42AC-A024-ED533EEE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68E4A-DA46-45DA-9583-AC6222D3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0A12B-51A3-4C98-B0D7-C9F995AA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33244-FF9D-443F-8496-C927B8BE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40A1A-A504-480D-B0E3-ADB9FEE1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06B7-D7F0-4332-90C6-1FFDE6CC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FD4E3-12F6-404F-9515-60514C3D9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C3DDD-4E81-4D37-8707-341E2AD49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7CB2-F944-48DC-ABB1-10F18BDA2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15823-AC5D-44E9-B14F-620BE26EA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0B9A8-61B6-4ED7-9304-69004DD6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F3E5-5336-4D08-BEE6-B74A341B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EC3CD-66E9-4B76-AF01-3469A3649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83031-B037-40D6-954D-B40A1962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4A4A8D-362F-47C3-882D-0B4DF50F3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91ECD-7EFD-4D8A-9739-962936C9E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74495-930D-4D4A-AA44-A25CC369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F318E-AE2A-46E5-A3CF-18361491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D5E59-EA3C-4A16-ABC1-91CD21EA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FDA3D-B189-4E07-9CC9-E3284A92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E4D74-B444-4133-832B-E680E429E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7D218-0B69-4676-A6D2-A9344E8F2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E9D5-32C4-417C-ABFA-A7AE5F86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1F11C-0FBB-49C0-831B-3940A68C3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94E73-2348-4469-B049-F8C500A6C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7AEB8A-641B-4328-8861-DF76AE62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38A81-1405-4EB6-A7D2-89679ECA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BC412-FC40-44C2-9C08-6464883D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7EA23-7A79-45CA-B5A6-566DCD4E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B4405-5228-45D6-BC69-F59EE089E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08F497-8EE4-4C2A-B8CF-3897A334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DC5D6-6ADC-41DE-AB1B-A61E7321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70525-2838-44EB-8002-B0535C48C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13DF-E592-48F2-A127-0B1F6CD3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BFA17-2895-466F-AC1E-972385FF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1EA74-F4B5-466C-BA2C-AC82BBEA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73815F-A615-435F-B7B8-89094B90E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98DB3-8AD6-41A8-87EA-A667338D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69B10-3DC7-444D-94FE-513083FF7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9C095B-43C6-4E64-8304-D833E33DD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A0BF9-BDCC-41CC-BC7B-2146DD967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9E7210-E00A-4B24-AE82-9F4CECE9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083D8-B3BA-4158-8FB8-55A50609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C2083A-FE39-43B4-BFB8-80B199F4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4BA6-5C02-49D8-A29F-14E88C57F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A59DF-6856-429D-BD2E-CFA91489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AFD81-4970-44B4-8B6C-5E8FC5CC7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613A0D-1516-4AE4-A4EC-AD8BEB5D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2A85F-0521-4310-89DD-4B6E263BB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20413-34C1-4A13-A791-87691F251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C2C59-5D8A-45A3-9313-367B9D38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426827-D3E5-41BF-A82D-94EF9020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6D1DF9-6F04-4E48-86E2-8D68C058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BFBDC0-961B-49EE-9BE9-A5A0635D9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ED587-9CF2-4095-9527-F617AB7E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95D8-40BE-4FDC-9A41-189EB1C7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354016-4AC7-4807-A356-E7014758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EBEBA0-813C-47E4-B380-32C8EC83C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DD543B-C9C8-45C5-90B5-73B1DA99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87F92-1369-428C-AA3C-277001A4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2E7DE-985B-49C8-9992-735FF3C8F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42623-076F-4D60-9976-C11A3F21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A8027-D62C-4751-A282-1ED2DF3D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E035A-1CAA-4CC6-A529-36646448C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51CD2-73E8-4656-B276-2D9E8992D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D7F3DB-5850-4750-8FF8-5163BAB0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8657-5263-477C-A1B6-BFE441BA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457200" y="0"/>
            <a:ext cx="8229600" cy="556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1FF0B-B397-4411-A281-F2B6AE8A6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E2959-5E22-4419-877B-6D2591DD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52B78-FBFD-43F2-A6DC-0E2347D2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FE0A6-EF94-4159-8D13-B1291D17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64ACB-66FD-4A83-A31B-00C381CD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0D01B3-9A01-4B87-B307-6C5F3AC0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1BA0D-0480-44DB-8B2F-E75CB8D7B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BE66B-67FF-4694-AF67-FE82E0782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F0A1D-AA63-421C-AFDB-D48979BB9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89B0C-587D-4C3A-ABDF-2169574F7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4AD0B-9452-4F07-BF8D-696392929A94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5071-E5DB-4E9A-8663-2B76BC63A9B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28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94BF-AB39-4005-B8EE-A1F99234A47E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9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30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E3AE2-6C13-4A88-ABB9-D3507A78EF6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dt" idx="31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89E13-DEE0-4686-9CBE-B628D1C43C49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 type="ftr" idx="32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 type="sldNum" idx="33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769DC-2516-4571-8F31-D0C9712A49D4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4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FD699-FB99-4706-B6A6-E85BBD8D9AB3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5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6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3420-237C-4851-93E6-2EB8A2EC8203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787B-9970-437D-B7E8-147D601CFDA6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551BD-3CDA-4D27-8C51-9BBC42B2BD51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00EC-91D0-4E8F-B2F9-DA28732CEBEA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47F0-0E94-424A-B3A2-C4BBA999F12B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6"/>
          <p:cNvSpPr/>
          <p:nvPr/>
        </p:nvSpPr>
        <p:spPr>
          <a:xfrm>
            <a:off x="4495680" y="2943360"/>
            <a:ext cx="84240" cy="633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7"/>
          <p:cNvSpPr/>
          <p:nvPr/>
        </p:nvSpPr>
        <p:spPr>
          <a:xfrm>
            <a:off x="4695840" y="2943360"/>
            <a:ext cx="84240" cy="633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8"/>
          <p:cNvSpPr/>
          <p:nvPr/>
        </p:nvSpPr>
        <p:spPr>
          <a:xfrm>
            <a:off x="4297320" y="2943360"/>
            <a:ext cx="84240" cy="633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817E-CBD6-4977-ABE4-79915A550051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02A2-8660-4BF5-9221-1D7052CE792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0156-6EE8-4313-95F3-F9669E3C7AF8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FEDE9-1BB6-4F2A-82E9-B655994C280A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9F9F-5832-4725-9CC9-63203A8F0DBA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A022-7823-4C79-B2B8-5F6A3FCE756E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13002-46B5-45FF-A97D-8C3FBE740622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Эффективное управление временем и ресурсами.                                                                                            </a:t>
            </a:r>
            <a:fld id="{936F7458-3673-4328-8792-D4FEA7119039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22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D537-25AB-4FC1-A24B-6FD98132DD48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3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4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30B0-388A-426B-93DE-313C66123FF7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Oval 6"/>
          <p:cNvSpPr/>
          <p:nvPr/>
        </p:nvSpPr>
        <p:spPr>
          <a:xfrm>
            <a:off x="845820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7"/>
          <p:cNvSpPr/>
          <p:nvPr/>
        </p:nvSpPr>
        <p:spPr>
          <a:xfrm>
            <a:off x="569880" y="4875120"/>
            <a:ext cx="84240" cy="63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" bIns="-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Номер слайда 6"/>
          <p:cNvSpPr/>
          <p:nvPr/>
        </p:nvSpPr>
        <p:spPr>
          <a:xfrm>
            <a:off x="220680" y="4865760"/>
            <a:ext cx="8599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70c0"/>
                </a:solidFill>
                <a:latin typeface="AG_Souvenir"/>
                <a:ea typeface="Calibri"/>
              </a:rPr>
              <a:t>«Семейные фермы Татарстана - 2020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362280" y="4766760"/>
            <a:ext cx="208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7FBF-2645-4960-8E78-DAC87F33F787}" type="datetime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658440" y="4766760"/>
            <a:ext cx="284796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543520" y="4766760"/>
            <a:ext cx="561960" cy="27468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85AE-46AF-48C3-AD56-3A7C19D2E266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Подзаголовок 4"/>
          <p:cNvSpPr/>
          <p:nvPr/>
        </p:nvSpPr>
        <p:spPr>
          <a:xfrm>
            <a:off x="0" y="1816200"/>
            <a:ext cx="91440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84c84"/>
                </a:solidFill>
                <a:latin typeface="Calibri"/>
                <a:ea typeface="Calibri"/>
              </a:rPr>
              <a:t>Муниципальный район (наименование сельской территории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Box 14"/>
          <p:cNvSpPr/>
          <p:nvPr/>
        </p:nvSpPr>
        <p:spPr>
          <a:xfrm>
            <a:off x="0" y="41464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595959"/>
                </a:solidFill>
                <a:latin typeface="Calibri"/>
                <a:ea typeface="Calibri"/>
              </a:rPr>
              <a:t>Индивидуальный предприниматель – глава крестьянского (фермерского) хозяйств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595959"/>
                </a:solidFill>
                <a:latin typeface="Calibri"/>
                <a:ea typeface="Calibri"/>
              </a:rPr>
              <a:t>Фамилия Имя Отчеств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43" descr="\\192.168.0.3\Pictures\ЭМБЛЕМЫ\GERB\gerb RF цв.jpg"/>
          <p:cNvPicPr/>
          <p:nvPr/>
        </p:nvPicPr>
        <p:blipFill>
          <a:blip r:embed="rId1"/>
          <a:stretch/>
        </p:blipFill>
        <p:spPr>
          <a:xfrm>
            <a:off x="611280" y="824040"/>
            <a:ext cx="839520" cy="100800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4" descr="\\192.168.0.3\Pictures\ЭМБЛЕМЫ\GERB\качество.jpg"/>
          <p:cNvPicPr/>
          <p:nvPr/>
        </p:nvPicPr>
        <p:blipFill>
          <a:blip r:embed="rId2"/>
          <a:stretch/>
        </p:blipFill>
        <p:spPr>
          <a:xfrm>
            <a:off x="7596360" y="82404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45" descr="\\192.168.0.3\Pictures\ЭМБЛЕМЫ\МСХ\герб МСХ.jpg"/>
          <p:cNvPicPr/>
          <p:nvPr/>
        </p:nvPicPr>
        <p:blipFill>
          <a:blip r:embed="rId3"/>
          <a:stretch/>
        </p:blipFill>
        <p:spPr>
          <a:xfrm>
            <a:off x="3924360" y="8240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2"/>
          <p:cNvSpPr/>
          <p:nvPr/>
        </p:nvSpPr>
        <p:spPr>
          <a:xfrm>
            <a:off x="0" y="26766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езентаци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Семейная ферма на ____ голов ______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 годовым объемом производства ______        _____тонн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4"/>
          <p:cNvSpPr/>
          <p:nvPr/>
        </p:nvSpPr>
        <p:spPr>
          <a:xfrm>
            <a:off x="-9360" y="4803840"/>
            <a:ext cx="9153360" cy="3398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23640" y="2898360"/>
            <a:ext cx="8458200" cy="12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6000"/>
          </a:bodyPr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Руководитель проекта: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marL="352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Администратор проекта: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graphicFrame>
        <p:nvGraphicFramePr>
          <p:cNvPr id="574" name=""/>
          <p:cNvGraphicFramePr/>
          <p:nvPr/>
        </p:nvGraphicFramePr>
        <p:xfrm>
          <a:off x="324000" y="4011480"/>
          <a:ext cx="6278400" cy="671760"/>
        </p:xfrm>
        <a:graphic>
          <a:graphicData uri="http://schemas.openxmlformats.org/drawingml/2006/table">
            <a:tbl>
              <a:tblPr/>
              <a:tblGrid>
                <a:gridCol w="3543120"/>
                <a:gridCol w="2735280"/>
              </a:tblGrid>
              <a:tr h="6717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__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Подпись и печать / подпись заявителя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5" name="Rectangle 7"/>
          <p:cNvSpPr/>
          <p:nvPr/>
        </p:nvSpPr>
        <p:spPr>
          <a:xfrm>
            <a:off x="1508040" y="253044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Номер слайда 6"/>
          <p:cNvSpPr/>
          <p:nvPr/>
        </p:nvSpPr>
        <p:spPr>
          <a:xfrm>
            <a:off x="8748720" y="486576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BE09-AE20-4411-AD86-155328E427F2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Прямоугольник 2"/>
          <p:cNvSpPr/>
          <p:nvPr/>
        </p:nvSpPr>
        <p:spPr>
          <a:xfrm>
            <a:off x="3288240" y="1076400"/>
            <a:ext cx="24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Контактные данны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Box 5"/>
          <p:cNvSpPr/>
          <p:nvPr/>
        </p:nvSpPr>
        <p:spPr>
          <a:xfrm>
            <a:off x="611280" y="1549440"/>
            <a:ext cx="806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зисное описание ситу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параметров в соответствующем районе 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до начала реализации проект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желательно дополнительное размещение изображений, графиков и таб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Номер слайда 6"/>
          <p:cNvSpPr/>
          <p:nvPr/>
        </p:nvSpPr>
        <p:spPr>
          <a:xfrm>
            <a:off x="8748720" y="486576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275D2-AFB6-44B2-A3CD-4A4A1157DFE5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Box 5"/>
          <p:cNvSpPr/>
          <p:nvPr/>
        </p:nvSpPr>
        <p:spPr>
          <a:xfrm>
            <a:off x="611280" y="1477800"/>
            <a:ext cx="806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отографии хозяйства (главы КФХ и членов на фоне производственных объектов, техники, помещений, оборудования, сельскохозяйственных животных, жилого дома и дворовых построек и др.) способные дать общую характеристику состояния имущественного комплекса заявителя на момент подачи заявки (не более 5 слайдо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Номер слайда 6"/>
          <p:cNvSpPr/>
          <p:nvPr/>
        </p:nvSpPr>
        <p:spPr>
          <a:xfrm>
            <a:off x="8748720" y="486576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758DA-1715-420E-8AA8-8E0ADDD4FA15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0" y="123480"/>
            <a:ext cx="9144000" cy="63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Цель и результат проекта</a:t>
            </a:r>
            <a:endParaRPr b="0" lang="en-US" sz="32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50" name="Номер слайда 6"/>
          <p:cNvSpPr/>
          <p:nvPr/>
        </p:nvSpPr>
        <p:spPr>
          <a:xfrm>
            <a:off x="8748720" y="486576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E3D1-36DD-4EC0-8FC8-2C58A2B5CC0A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1" name=""/>
          <p:cNvGraphicFramePr/>
          <p:nvPr/>
        </p:nvGraphicFramePr>
        <p:xfrm>
          <a:off x="282600" y="915840"/>
          <a:ext cx="8569440" cy="3672000"/>
        </p:xfrm>
        <a:graphic>
          <a:graphicData uri="http://schemas.openxmlformats.org/drawingml/2006/table">
            <a:tbl>
              <a:tblPr/>
              <a:tblGrid>
                <a:gridCol w="1771560"/>
                <a:gridCol w="6797880"/>
              </a:tblGrid>
              <a:tr h="151128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ctr">
                      <a:noAutofit/>
                    </a:bodyPr>
                    <a:p>
                      <a:pPr lvl="1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Цель проекта – запланированное желаемое состояние объекта управления, она должна соответствовать следующим требованиям: отражать ожидаемый социально-экономический полезный эффект от реализации проекта; иметь измеримые количественные показатели и сроки достижения; быть достижимой в реальных условиях, в которых осуществляется проект; полностью находиться в сфере ответственности и влияния исполнителя проекта (например: Увеличение к 2022 году производства молока в хозяйстве до 260 тыс.тн в 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пособ достижения цели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marL="1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птимальный путь достижения обозначенной цели ( например: увеличение дойного стада на 50 гол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езультат проекта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marL="1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мущественный либо неимущественный результат,  который должен быть достигнут по факту достижения цели проекта (например: Молочная ферма на 100 кор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ебования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 результату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marL="1764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ребования к результату проекта, которые будут учитываться при определении    достижения    данных    результатов.    Определяют качественные    и    количественные    характеристики    результата проекта (например: помещение  на 100 коров, телятник, дорога, водонапорные башни и т. 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льзователи результата проекта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0" rIns="72000" tIns="0" bIns="0" anchor="t">
                      <a:noAutofit/>
                    </a:bodyPr>
                    <a:p>
                      <a:pPr marL="1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руг потребителей (область применения, закупочные цены ) результатов проект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76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например: Казанский молочный комбина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72000" marR="72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Box 5"/>
          <p:cNvSpPr/>
          <p:nvPr/>
        </p:nvSpPr>
        <p:spPr>
          <a:xfrm>
            <a:off x="0" y="123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Тезисное описание измененных параметров и ситуаци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 соответствующей области после  окончания проекта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желательно дополнительное размещение графиков и табли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324000" y="2049480"/>
          <a:ext cx="3311280" cy="2754360"/>
        </p:xfrm>
        <a:graphic>
          <a:graphicData uri="http://schemas.openxmlformats.org/drawingml/2006/table">
            <a:tbl>
              <a:tblPr/>
              <a:tblGrid>
                <a:gridCol w="583920"/>
                <a:gridCol w="1216080"/>
                <a:gridCol w="1511280"/>
              </a:tblGrid>
              <a:tr h="1001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6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оличество постоянных рабочих мест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6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 т. ч. количество новых постоянных создаваемых рабочих ме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ebf6ff"/>
                    </a:solidFill>
                  </a:tcPr>
                </a:tc>
              </a:tr>
              <a:tr h="25092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920"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4" name="TextBox 4"/>
          <p:cNvSpPr/>
          <p:nvPr/>
        </p:nvSpPr>
        <p:spPr>
          <a:xfrm>
            <a:off x="108000" y="1563840"/>
            <a:ext cx="37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График создания рабочих ме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Таблица 5" descr=""/>
          <p:cNvPicPr/>
          <p:nvPr/>
        </p:nvPicPr>
        <p:blipFill>
          <a:blip r:embed="rId1"/>
          <a:stretch/>
        </p:blipFill>
        <p:spPr>
          <a:xfrm>
            <a:off x="3919680" y="2023920"/>
            <a:ext cx="4956120" cy="2876760"/>
          </a:xfrm>
          <a:prstGeom prst="rect">
            <a:avLst/>
          </a:prstGeom>
          <a:ln w="0">
            <a:noFill/>
          </a:ln>
        </p:spPr>
      </p:pic>
      <p:sp>
        <p:nvSpPr>
          <p:cNvPr id="556" name="TextBox 7"/>
          <p:cNvSpPr/>
          <p:nvPr/>
        </p:nvSpPr>
        <p:spPr>
          <a:xfrm>
            <a:off x="4211640" y="1563840"/>
            <a:ext cx="44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лан производства проду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Номер слайда 6"/>
          <p:cNvSpPr/>
          <p:nvPr/>
        </p:nvSpPr>
        <p:spPr>
          <a:xfrm>
            <a:off x="8748720" y="486576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A7E4E-399E-4E59-BCFE-EE4008F90674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Group 151" descr=""/>
          <p:cNvPicPr/>
          <p:nvPr/>
        </p:nvPicPr>
        <p:blipFill>
          <a:blip r:embed="rId1"/>
          <a:stretch/>
        </p:blipFill>
        <p:spPr>
          <a:xfrm>
            <a:off x="237960" y="1066680"/>
            <a:ext cx="8710920" cy="3090960"/>
          </a:xfrm>
          <a:prstGeom prst="rect">
            <a:avLst/>
          </a:prstGeom>
          <a:ln w="0">
            <a:noFill/>
          </a:ln>
        </p:spPr>
      </p:pic>
      <p:sp>
        <p:nvSpPr>
          <p:cNvPr id="559" name="Номер слайда 6"/>
          <p:cNvSpPr/>
          <p:nvPr/>
        </p:nvSpPr>
        <p:spPr>
          <a:xfrm>
            <a:off x="8748720" y="486576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04F1-9816-4454-A2E1-6260D653A0FE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TextBox 4" descr=""/>
          <p:cNvPicPr/>
          <p:nvPr/>
        </p:nvPicPr>
        <p:blipFill>
          <a:blip r:embed="rId2"/>
          <a:stretch/>
        </p:blipFill>
        <p:spPr>
          <a:xfrm>
            <a:off x="249120" y="4211640"/>
            <a:ext cx="8718840" cy="677880"/>
          </a:xfrm>
          <a:prstGeom prst="rect">
            <a:avLst/>
          </a:prstGeom>
          <a:ln w="0">
            <a:noFill/>
          </a:ln>
        </p:spPr>
      </p:pic>
      <p:sp>
        <p:nvSpPr>
          <p:cNvPr id="561" name="TextBox 1"/>
          <p:cNvSpPr/>
          <p:nvPr/>
        </p:nvSpPr>
        <p:spPr>
          <a:xfrm>
            <a:off x="0" y="50760"/>
            <a:ext cx="91440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ГРАФИК ИСПОЛЬЗОВАНИЯ ГРАНТА И СОБСТВЕННЫХ СРЕДСТВ КФХ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0" y="205920"/>
            <a:ext cx="9144000" cy="4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роект Плана расходов КФХ _______________________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pic>
        <p:nvPicPr>
          <p:cNvPr id="563" name="Group 121" descr=""/>
          <p:cNvPicPr/>
          <p:nvPr/>
        </p:nvPicPr>
        <p:blipFill>
          <a:blip r:embed="rId1"/>
          <a:stretch/>
        </p:blipFill>
        <p:spPr>
          <a:xfrm>
            <a:off x="201600" y="841320"/>
            <a:ext cx="8813880" cy="3382920"/>
          </a:xfrm>
          <a:prstGeom prst="rect">
            <a:avLst/>
          </a:prstGeom>
          <a:ln w="0">
            <a:noFill/>
          </a:ln>
        </p:spPr>
      </p:pic>
      <p:sp>
        <p:nvSpPr>
          <p:cNvPr id="564" name="Прямоугольник 4"/>
          <p:cNvSpPr/>
          <p:nvPr/>
        </p:nvSpPr>
        <p:spPr>
          <a:xfrm>
            <a:off x="163440" y="4462560"/>
            <a:ext cx="799308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* - указываются средства Гранта и Единовременн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Номер слайда 6"/>
          <p:cNvSpPr/>
          <p:nvPr/>
        </p:nvSpPr>
        <p:spPr>
          <a:xfrm>
            <a:off x="8748720" y="486576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3F02-BFDC-4B9E-AB48-EC7317FE11D5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Таблица 4" descr=""/>
          <p:cNvPicPr/>
          <p:nvPr/>
        </p:nvPicPr>
        <p:blipFill>
          <a:blip r:embed="rId1"/>
          <a:stretch/>
        </p:blipFill>
        <p:spPr>
          <a:xfrm>
            <a:off x="255600" y="914400"/>
            <a:ext cx="8650440" cy="3833640"/>
          </a:xfrm>
          <a:prstGeom prst="rect">
            <a:avLst/>
          </a:prstGeom>
          <a:ln w="0">
            <a:noFill/>
          </a:ln>
        </p:spPr>
      </p:pic>
      <p:sp>
        <p:nvSpPr>
          <p:cNvPr id="567" name="Номер слайда 6"/>
          <p:cNvSpPr/>
          <p:nvPr/>
        </p:nvSpPr>
        <p:spPr>
          <a:xfrm>
            <a:off x="8748720" y="486576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DFC30-6114-42F3-8F02-1B2923F05596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2"/>
          <p:cNvSpPr/>
          <p:nvPr/>
        </p:nvSpPr>
        <p:spPr>
          <a:xfrm>
            <a:off x="0" y="0"/>
            <a:ext cx="914400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нформация по ранее полученному гранту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(в случае повторного участия) наименование на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Group 107" descr=""/>
          <p:cNvPicPr/>
          <p:nvPr/>
        </p:nvPicPr>
        <p:blipFill>
          <a:blip r:embed="rId1"/>
          <a:stretch/>
        </p:blipFill>
        <p:spPr>
          <a:xfrm>
            <a:off x="244440" y="884160"/>
            <a:ext cx="8643960" cy="3803760"/>
          </a:xfrm>
          <a:prstGeom prst="rect">
            <a:avLst/>
          </a:prstGeom>
          <a:ln w="0">
            <a:noFill/>
          </a:ln>
        </p:spPr>
      </p:pic>
      <p:sp>
        <p:nvSpPr>
          <p:cNvPr id="570" name="Прямоугольник 6"/>
          <p:cNvSpPr/>
          <p:nvPr/>
        </p:nvSpPr>
        <p:spPr>
          <a:xfrm>
            <a:off x="179280" y="4587840"/>
            <a:ext cx="61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* - после выхода хозяйствующего субъекта на проектную мощ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Номер слайда 6"/>
          <p:cNvSpPr/>
          <p:nvPr/>
        </p:nvSpPr>
        <p:spPr>
          <a:xfrm>
            <a:off x="8748720" y="4865760"/>
            <a:ext cx="3571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71ED-0492-4F67-B8DA-1D689BA13239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"/>
          <p:cNvSpPr/>
          <p:nvPr/>
        </p:nvSpPr>
        <p:spPr>
          <a:xfrm>
            <a:off x="0" y="6480"/>
            <a:ext cx="9144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казатели СОЦИАЛЬНОЙ, БЮДЖЕТНОЙ И ЭКОНОМИЧЕ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эффективности проекта КФХ 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3:06:54Z</dcterms:created>
  <dc:creator>Павел Гончаренко</dc:creator>
  <dc:description/>
  <dc:language>en-US</dc:language>
  <cp:lastModifiedBy>Гайнуллин</cp:lastModifiedBy>
  <cp:lastPrinted>2020-03-27T08:29:35Z</cp:lastPrinted>
  <dcterms:modified xsi:type="dcterms:W3CDTF">2020-04-08T12:48:56Z</dcterms:modified>
  <cp:revision>1088</cp:revision>
  <dc:subject/>
  <dc:title>Слайд 1</dc:title>
</cp:coreProperties>
</file>